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0D7-70DB-4612-89A6-DC67A737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06A-729D-4FFD-BEFE-A693882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AFB-732F-4E0B-A03D-436C01B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934-E916-4A8B-BC0B-0E4D9265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EB3-70DE-43FD-919B-736D29A3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5A0-2DBD-4A24-B864-0C24D37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3BCA-6033-4302-AA28-084AAFE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CD9E-2DC0-4B4D-A4FC-48D9DB21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E455-6183-4FD6-986B-79FF08A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AE2-B79D-48F3-913A-B959C22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A47E-104A-4A2E-842E-215F8FF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89C-8B06-4896-A6A4-A3CB9B0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846-2D12-4839-B50F-16611ED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61E-BBC6-4CB2-94D8-D584550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9C17-C759-444F-880A-7D87999C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007-5B0E-4CF7-8D29-2FC1042B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1738-FE7E-4648-B3FE-1345C234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461-F34F-4147-A70D-42DD4A9B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8E7-84E0-4394-8BBF-93AAD36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48A-69E4-42C9-8726-1A7814E7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70D-B577-4204-BF61-56DB929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CB8-C98E-43EA-B32F-76BE42F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90C-E1B8-42A0-9E71-F3CFEEC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F59-DB84-4345-9819-5949C2F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421-66C3-4072-B93E-D29C362BB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F97-8413-47F8-8F69-567A77A13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8672132-35A8-4524-99DE-E90683404E29&amp;blnFromSearch=1&amp;productcode=US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entury Schoolbook"/>
              </a:rPr>
              <a:t>Chapter 5: Physical Activity &amp; Weight Management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: Physical Fitness and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766880" cy="2264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8097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 Standard Strength Training Exercis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s leg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h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 the muscles of your upper arms and ch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l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cru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18874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12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urance – your ability to perform vigorous physical activity without getting overly t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basic types of endu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le endurance – measure of how long a group of muscles can exert a force without ti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and lung endurance – measure of how effectively your heart and lungs work during exercise and how quickly they return to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0" y="5410080"/>
            <a:ext cx="144792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build endurance is through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erobic exerc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nstop, rhythmic, vigorous activity that increases breathing and heartbeat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Running, biking, and swim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14223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yp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erobic exercise –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tense physical activity that requires short bursts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Weightlifting or spri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elcome to Discovery Education P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671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lexi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lexibility – the ability to move joints fully and eas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are more naturally flexible than others, but everyone benefits from increased flex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oing regular, gentle stretching, bending, and twisting, you will feel more comfortable, improve your posture, and reduce your risk of injury during strength or endurance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os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elements of fit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ody com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wo types of endur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4419720"/>
            <a:ext cx="1770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ELL ACTIVITY – 10/26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does it take to be physically f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re some things you do in your week to keep up your level of fitnes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2295360" cy="162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1809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fitnes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tness – the ability to handle the physical work and play of everyday life without becoming overly t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ing fit also means that you have energy in reserve to meet unexpected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8050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ing fit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hink you are f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you raise your level of fit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 – physical activity that develops fi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exercise regularly, you find you are able to get through each day with energy to sp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1809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Fitness Does For Yo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more than just physical wellbe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tio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ness is an excellent way to keep your health triangle in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5639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enefits of Fitness – Fig. 5.1, p. 11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to Physical Heal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energ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risk of getting certain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performance of heart and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strength and end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freedom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weigh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131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nefits continued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o Social Heal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hances to meet new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to share common goals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ability to interact and cooperate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to use talents to help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work more effici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53400" y="304920"/>
            <a:ext cx="2190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nefits continued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o Mental/Emotional Heal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pened mental aler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laxed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njoyment of leisur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81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Elements of Fitness, p. 12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 Composition- the proportions of fat, bones, muscle, and fluid that make up body we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ngth – the ability of your muscles to exert a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itness, strength is measured by the most work your muscles can do at a give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xercising to build strength, you can more easily lift heavy objects without injury or st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59:51Z</dcterms:created>
  <dc:creator>GSCS</dc:creator>
  <dc:description/>
  <dc:language>en-US</dc:language>
  <cp:lastModifiedBy>GSCS</cp:lastModifiedBy>
  <dcterms:modified xsi:type="dcterms:W3CDTF">2010-10-26T19:37:59Z</dcterms:modified>
  <cp:revision>5</cp:revision>
  <dc:subject/>
  <dc:title>Chapter 5: Physical Activity &amp; Weight Management</dc:title>
</cp:coreProperties>
</file>